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270F-B4DE-41C8-B6A7-3731EBCEE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5563-2CFF-4A74-A32F-E7336545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7A029-97C0-4789-809B-C51117B0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26237-9887-4E95-AEED-D55E2762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C2B95C-4E3D-47D7-BEF5-2EB599CF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E58371-BC70-43A2-B741-DBC9827C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7BEFC-5CC3-4C4E-ABCE-135EA9EB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9E713-E29A-4BE8-B2EA-FC48BD57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1B9C4-8D7A-435A-890F-52A00A6C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D29C7-F491-4A4C-B460-56820C7D1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DA51B-C7AB-4B23-9A3C-D5CD11609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B5C0B6-5114-412E-869B-3052FAEEC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BFA4-5E19-463E-9EF2-72872E7A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97B9C-AA75-44B9-8285-8D13C6C7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625E6D-B3DA-43A5-AE2C-CA4C0967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27E44-6A81-4DB0-9C9E-224D197B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79F160-4EDA-48BC-BA9B-1D934150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20435-CD25-49E9-A061-D72E5808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F32709-9DB7-4F60-93F8-3BB3A312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8DDB96-670C-43D9-AF98-7DA8A99A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E85AE-10C0-40E9-9276-42CFC5E2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E1BB3-FC1D-42E0-849F-4877C4AD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CA11C6-E338-4702-8F7E-AD1DF4305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297B-7340-40E9-B5B1-B3D2436AA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BC541D-A52A-4311-9296-A34B0FE6A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CFBA-96ED-4190-B96D-52C869A7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C91E-6149-4941-8698-2314DE00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3BD4-E06B-4514-9C68-93EB0059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F8E4-FF2B-46BB-B522-C52C2485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31C1-2FDE-4CE2-BAFF-6FDEC3A5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0617-728E-4309-AC16-09860212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E813-4A5C-419C-99F8-8518AFE5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6F0A-023B-4F17-9ED2-0D4E0BA8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5A29-E6BA-4E5B-BDE5-CA92E9D0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105D-E5A3-414F-A2E4-D3966D76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07A2-3C19-4ED4-933E-3ADFC8CE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288E-DDB2-47A7-8C50-071E82EF7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3DE0-C0AE-4A4F-A9DF-63CC5E5F4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600FC-4931-4929-BACC-6ACEF43C9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410B4-C87E-47F2-8EC0-5917B853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2D002-5506-497C-A197-044AB66E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C9052-9BE1-4198-A03C-A168502F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FED94-5C2E-4417-A79B-E627A9A3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E0AD-1CF7-4DA9-811E-4B67D8AB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3DA3D-3DA0-47E6-A8FC-B7A953A4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8C773-8BAB-461A-A56B-7F21D54E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E93F0-374E-4CE8-AD51-66AB7523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01899-99D3-49FB-8A47-340FED9D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A1B7A-0445-4C05-AE28-6E48FA6C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E49AC-CCED-4E7A-9247-B8035DB83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70E3C-7D19-4C6B-BA61-7369129C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09D02-F283-4AF2-817F-1E5CE6E6B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7D0AC-7C15-47F6-A544-7B7F3DEA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5FF62-6654-49D1-B0E4-94C75148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BEF7-CDE9-47D7-B8B8-7A5EC5F3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E8891-DB69-407C-85F9-F63A7405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D8FC1-6A5D-4F85-9377-04A2E114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07A85-41DA-4778-AC1D-B8E52D94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AA7C0-9F11-4F6D-A18F-B3E74A45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F22B3-5EA5-49CE-871A-BFD08494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44D97-AF6E-42E7-BA3C-BAC624E2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14C2F-AD99-49B7-81FC-D34251CD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ABD5D-F250-456B-AF8C-87EB8D549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7A489-7419-4188-8111-50BA660D2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D587A-BB06-4424-86DD-01363A71D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5D3F-E9B4-4F83-BFA0-E6BCF79C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D3D75-A5F5-443D-A023-5F1DB65F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22EAE-25A2-4574-BE8A-2FD9538F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4A6F0-E8A9-448F-BE5B-8F50B508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DEA62-2654-43DD-8716-C4E8D050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406F3-B4BC-4EF8-A798-1C1E0577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626E3-5EC8-4808-B485-A0F7BED0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9B5FA-DA82-4689-B4FB-E1431728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D5A9E-C9AD-4152-A136-A2CB8599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38DD5-2A6F-4790-ABF5-3E8C3ABD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81AF6-60F8-4DB7-8CDC-24DEE7A39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892C-FB06-4883-943B-E2E59116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02F4F-DA97-4A01-A6E2-C97772BB7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D53F0-5A88-4B3D-A15B-1E9F2860C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9B955-F2BE-46F4-B4A6-5F86E1D3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D89AB-E7F8-44E6-9B88-55DCA515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CF395-CE71-457F-A914-3AFC4277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C33F5-2419-4770-AD87-5FA6F885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8E8D8-06D6-4A61-B0DC-17B8D1E1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D8FC5-5163-4E65-9D15-315E34AB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5EB00-28E2-4FC3-A84B-7B78B009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868F8-2600-4824-A01A-2FD57C9E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D906-2519-4326-8CB8-4EEEA3B5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DF3D4-6948-4FC0-AF46-8087A4CD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846F6-FF4B-499E-ADDA-6D5B1E2C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3A7C6-1FCF-4F52-9E44-016EBF96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323DB-7973-416F-B471-B0865307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8F3F8-20BE-4E6D-92EB-FBE2DCA5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F1123-0376-43D7-AD70-5A39CBC2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E5BAA-02C4-4816-8AD3-1F568A85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78355-112A-4CCD-BF11-1A139156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BBB55-979B-432E-B526-729C2154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DAB3E-1FCC-419C-832C-1F4E13EA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078D-B7C8-450E-8A9D-C23B9944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937F2-02CC-4F62-9830-281807C8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766AC-5A81-4022-8F9B-07E4C251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47E5E-2B93-4C7A-ADA1-6D66874A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5CA73-EE5D-4387-A290-BA6B8E3BF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0EEF7-F18A-4B1D-B18A-CD18E8F5D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5FE59-F53C-4B1D-8BC7-7AB155B2D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A8B89-4DBF-4B38-AE45-DC2976A2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B62BB-608A-4996-8810-B8135435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85265-16BB-4E9E-BD2A-1CC63A46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C27F3-3C50-4323-BF7E-22D0DE78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D34B-CEB6-451B-B107-3A87BEE6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59047-7A7E-4185-9B24-60217BB0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08602-1FB5-48C9-8F92-7E060D95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8ACDE-14C7-484F-A1C2-5F7EAC34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69FA1-67CA-42C3-BE61-CD43403B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81D00-9045-400A-AE22-CA342D16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BE6CC-5E45-45CA-A56D-AB178562F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456B4-E2C3-4883-AA43-5B5D151E8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2237D2-FB69-4435-BBEE-E063DC8FE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4A84F-8B86-44CD-BC23-DAD904BF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6A86E-01E0-4F34-8A67-2698F314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5F66C-5F14-4A66-809F-6FC0F4396B2F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CE54F-9C29-4B7E-B9D8-A8A6D38AB2EB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6B8AE-FA92-497F-88EA-7D6F326E77AC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A398E-A02D-4956-A460-D2DC5B79F78A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D10F4-3297-4138-82AC-F2B634A12F33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C913A-B738-4C56-8896-48DAD1EFD6D1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4BCFD-A236-4480-A82A-D187BDD5CBC6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6A16C-0D3B-44E0-BE5D-DF67AA077D35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F2470-5B76-413B-9CFA-14367C16CE83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8AED8-D63A-495A-8B7D-BC573284E9DA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000" y="-515880"/>
            <a:ext cx="9070920" cy="22953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5400"/>
            </a:br>
            <a:r>
              <a:rPr b="1" lang="fi-FI" sz="5400" spc="-1" strike="noStrike">
                <a:solidFill>
                  <a:srgbClr val="ccccff"/>
                </a:solidFill>
                <a:latin typeface="Arial"/>
              </a:rPr>
              <a:t>MA FAMILLE</a:t>
            </a:r>
            <a:br>
              <a:rPr sz="5400"/>
            </a:b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ma famil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es grands-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on grand-p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a grand-m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es petits-enf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on petit-f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a petite-f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  <a:ea typeface="DejaVu Sans"/>
              </a:rPr>
              <a:t>Mes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  <a:ea typeface="DejaVu Sans"/>
              </a:rPr>
              <a:t>Mon p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  <a:ea typeface="DejaVu Sans"/>
              </a:rPr>
              <a:t>Ma m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  <a:ea typeface="DejaVu Sans"/>
              </a:rPr>
              <a:t>Mes enf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  <a:ea typeface="DejaVu Sans"/>
              </a:rPr>
              <a:t>Mon f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  <a:ea typeface="DejaVu Sans"/>
              </a:rPr>
              <a:t>Ma f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ma famil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on fr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a so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on nev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a niè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  <a:ea typeface="DejaVu Sans"/>
              </a:rPr>
              <a:t>Mon on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  <a:ea typeface="DejaVu Sans"/>
              </a:rPr>
              <a:t>Ma 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  <a:ea typeface="DejaVu Sans"/>
              </a:rPr>
              <a:t>Mon cou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  <a:ea typeface="DejaVu Sans"/>
              </a:rPr>
              <a:t>Ma cous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ma famille (politique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9280" y="1979640"/>
            <a:ext cx="442620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es beaux-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a belle-m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on beau-p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es beaux-enf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on beau-f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a belle-f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292720" y="1800000"/>
            <a:ext cx="442584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  <a:ea typeface="DejaVu Sans"/>
              </a:rPr>
              <a:t>Mon beau-fr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  <a:ea typeface="DejaVu Sans"/>
              </a:rPr>
              <a:t>Ma belle-so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5400" spc="-1" strike="noStrike">
                <a:solidFill>
                  <a:srgbClr val="ffffff"/>
                </a:solidFill>
                <a:latin typeface="Arial"/>
              </a:rPr>
              <a:t>la famille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02920" y="1805040"/>
            <a:ext cx="9070920" cy="554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Arial"/>
              </a:rPr>
              <a:t>PHR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- Voici ma fami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- Je cherche une famill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- Tu as des frères ou des soeu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- J'ai deux soe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- Je n'ai pas de frères ni de soe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- Je suis fille (fils) uniq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- Regarde la phot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5400" spc="-1" strike="noStrike">
                <a:solidFill>
                  <a:srgbClr val="ffffff"/>
                </a:solidFill>
                <a:latin typeface="Arial"/>
              </a:rPr>
              <a:t>Adj</a:t>
            </a:r>
            <a:r>
              <a:rPr b="1" i="1" lang="fi-FI" sz="5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fi-FI" sz="5400" spc="-1" strike="noStrike">
                <a:solidFill>
                  <a:srgbClr val="ffffff"/>
                </a:solidFill>
                <a:latin typeface="Arial"/>
              </a:rPr>
              <a:t>Possessifs</a:t>
            </a:r>
            <a:r>
              <a:rPr b="1" i="1" lang="fi-FI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fi-FI" sz="3200" spc="-1" strike="noStrike">
                <a:solidFill>
                  <a:srgbClr val="ffffff"/>
                </a:solidFill>
                <a:latin typeface="Arial"/>
              </a:rPr>
              <a:t>(ma famill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539640" y="1800360"/>
          <a:ext cx="9137880" cy="1260360"/>
        </p:xfrm>
        <a:graphic>
          <a:graphicData uri="http://schemas.openxmlformats.org/drawingml/2006/table">
            <a:tbl>
              <a:tblPr/>
              <a:tblGrid>
                <a:gridCol w="1544760"/>
                <a:gridCol w="3835440"/>
                <a:gridCol w="3757680"/>
              </a:tblGrid>
              <a:tr h="12603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i-FI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ier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i-FI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ie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720720" y="3060720"/>
          <a:ext cx="8778960" cy="2158920"/>
        </p:xfrm>
        <a:graphic>
          <a:graphicData uri="http://schemas.openxmlformats.org/drawingml/2006/table">
            <a:tbl>
              <a:tblPr/>
              <a:tblGrid>
                <a:gridCol w="1339920"/>
                <a:gridCol w="1968480"/>
                <a:gridCol w="1942920"/>
                <a:gridCol w="3527640"/>
              </a:tblGrid>
              <a:tr h="719640">
                <a:tc>
                  <a:txBody>
                    <a:bodyPr lIns="90000" rIns="90000" tIns="626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626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626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/Elle/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7" name=""/>
          <p:cNvGraphicFramePr/>
          <p:nvPr/>
        </p:nvGraphicFramePr>
        <p:xfrm>
          <a:off x="720720" y="5219640"/>
          <a:ext cx="8829720" cy="1438200"/>
        </p:xfrm>
        <a:graphic>
          <a:graphicData uri="http://schemas.openxmlformats.org/drawingml/2006/table">
            <a:tbl>
              <a:tblPr/>
              <a:tblGrid>
                <a:gridCol w="1364760"/>
                <a:gridCol w="3912480"/>
                <a:gridCol w="3552480"/>
              </a:tblGrid>
              <a:tr h="480240">
                <a:tc>
                  <a:txBody>
                    <a:bodyPr lIns="90000" rIns="90000" tIns="626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0240">
                <a:tc>
                  <a:txBody>
                    <a:bodyPr lIns="90000" rIns="90000" tIns="626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T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626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/E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6:04:39Z</dcterms:created>
  <dc:creator>Usuario guadalinex</dc:creator>
  <dc:description/>
  <dc:language>en-US</dc:language>
  <cp:lastModifiedBy>Usuario guadalinex</cp:lastModifiedBy>
  <dcterms:modified xsi:type="dcterms:W3CDTF">2010-11-13T18:24:57Z</dcterms:modified>
  <cp:revision>9</cp:revision>
  <dc:subject/>
  <dc:title/>
</cp:coreProperties>
</file>